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698-315F-468A-BAFF-75949DCF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E1F-B218-4D52-9C8E-B3D057B9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70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4EE-042A-4F4E-86A3-51BDFC21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516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061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516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061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562-7EC8-4E9C-8946-093FEC05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5F5-383B-4096-9707-B0120E0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F10-90EA-41C4-ABAA-C911AD24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BCA-A91E-40F8-93B2-F5BED499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020-39C3-4F4C-81EE-1479491D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B65-54B6-427A-828E-781E8355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5ED-94E3-45BF-9168-3CD984E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70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5F0-5ABE-4B8B-9FD2-83FE16A5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70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2E4-F8AA-4E4C-BCEC-B8A08E4E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E844-066C-4E1C-9450-F506404CA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Raising Revenue in the U.S.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The bank passes!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amilton’s argumen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Article I, Section 8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Fed. Gov’t had power “to make all laws which shall be necessary and proper” to execute responsibilities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ollect taxes, regulate trade, provide for common defense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20 year Period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The Whiskey Rebellion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1791 – Fed. Gov’t taxes whiskey producti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Western farmers upse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Made lot of whiskey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1794 – rebellion in western PA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GW sends army to stop rebelli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8" name="Picture 4" descr="tariff"/>
          <p:cNvPicPr/>
          <p:nvPr/>
        </p:nvPicPr>
        <p:blipFill>
          <a:blip r:embed="rId2"/>
          <a:stretch/>
        </p:blipFill>
        <p:spPr>
          <a:xfrm>
            <a:off x="304920" y="609480"/>
            <a:ext cx="853416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Tariff of 1789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James Madis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igher tax on imports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igher price for shipping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Based on weigh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outherners NOT happy!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3" name="Picture 4" descr="images"/>
          <p:cNvPicPr/>
          <p:nvPr/>
        </p:nvPicPr>
        <p:blipFill>
          <a:blip r:embed="rId2"/>
          <a:stretch/>
        </p:blipFill>
        <p:spPr>
          <a:xfrm>
            <a:off x="5105520" y="2133720"/>
            <a:ext cx="38098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Another option…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Alexander Hamilt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Government should be able to borrow money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8" name="Picture 4" descr="images-1"/>
          <p:cNvPicPr/>
          <p:nvPr/>
        </p:nvPicPr>
        <p:blipFill>
          <a:blip r:embed="rId2"/>
          <a:stretch/>
        </p:blipFill>
        <p:spPr>
          <a:xfrm>
            <a:off x="2514600" y="3352680"/>
            <a:ext cx="39625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From the war…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Borrowed from Americans, Spanish, French, and Dutch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amilton: accept these debts at their full value!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Opposition to Hamilton’s plan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760" y="182880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James Madison and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outh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peculators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Spent $10 to get $100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Most bonds in North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67" name="Picture 4" descr="images-2"/>
          <p:cNvPicPr/>
          <p:nvPr/>
        </p:nvPicPr>
        <p:blipFill>
          <a:blip r:embed="rId2"/>
          <a:stretch/>
        </p:blipFill>
        <p:spPr>
          <a:xfrm>
            <a:off x="152280" y="2209680"/>
            <a:ext cx="39625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ompromise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Madison and Jefferson would get Southern vote for pla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apital of U.S. would move from NY to Washington, D.C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72" name="Picture 4" descr="images-3"/>
          <p:cNvPicPr/>
          <p:nvPr/>
        </p:nvPicPr>
        <p:blipFill>
          <a:blip r:embed="rId2"/>
          <a:stretch/>
        </p:blipFill>
        <p:spPr>
          <a:xfrm>
            <a:off x="2590920" y="4114800"/>
            <a:ext cx="3124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National Bank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22096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Alexander Hamilton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Manage debts and interes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Issue paper money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Not so fast…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outh opposes bank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North has most investmen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Not in enumerated powers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81" name="Picture 5" descr="images-5"/>
          <p:cNvPicPr/>
          <p:nvPr/>
        </p:nvPicPr>
        <p:blipFill>
          <a:blip r:embed="rId2"/>
          <a:stretch/>
        </p:blipFill>
        <p:spPr>
          <a:xfrm>
            <a:off x="2133720" y="4038480"/>
            <a:ext cx="41148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2:23:51Z</dcterms:created>
  <dc:creator>Dave Moffa</dc:creator>
  <dc:description/>
  <cp:keywords/>
  <dc:language>en-US</dc:language>
  <cp:lastModifiedBy>Moffa, David</cp:lastModifiedBy>
  <cp:lastPrinted>1904-01-01T00:00:00Z</cp:lastPrinted>
  <dcterms:modified xsi:type="dcterms:W3CDTF">2010-12-14T12:34:44Z</dcterms:modified>
  <cp:revision>27</cp:revision>
  <dc:subject/>
  <dc:title>Raising Revenue in the U.S.</dc:title>
</cp:coreProperties>
</file>